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2.png" ContentType="image/png"/>
  <Override PartName="/ppt/media/image37.wmf" ContentType="image/x-wmf"/>
  <Override PartName="/ppt/media/image7.wmf" ContentType="image/x-wmf"/>
  <Override PartName="/ppt/media/image35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applause.wav" ContentType="audio/x-wav"/>
  <Override PartName="/ppt/media/image5.png" ContentType="image/png"/>
  <Override PartName="/ppt/media/image38.wmf" ContentType="image/x-wmf"/>
  <Override PartName="/ppt/media/image8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47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33D5-7522-49D0-9D2B-395D8E8A7C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70F3-3115-47DE-8847-99AD9E547D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8565-5EEA-4D21-80AB-93E85F4F46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463D-B509-4B70-AC46-FCB511ED60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B188-4B7F-40D5-AF6B-0E61BF7349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5DDE-B92A-4BDF-BDD7-697B8215A4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71A8-534C-4A71-9F62-9D073CA165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0D4-C142-4CA2-85E3-116ADAC37E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E23F-EA60-4BCF-9231-FAA80A6B9E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D384-0779-4428-9816-26CE42696F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BCBA-52B0-47FD-84A3-592104EB1C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3242-13AD-4938-AE25-19B0237C7A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620-EEE3-415A-A97C-84ED861C8C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DE3-7155-4E4C-898F-00679BF9B5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2F39-81CC-49B6-BD17-465256FB0D0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11D3-55E4-4C58-89CE-2771D90BEC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A1B1-D6BD-4D54-9BBC-4E18C0E5924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21C-37BB-45E7-82C4-EDFB46749B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FBE5-2532-4631-8259-729B6BBFBA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68F2-FA1B-446D-B820-6F9B25BE04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451D-D59D-45FA-9E5C-1A63BE9343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7BF1-E6DE-43A0-854B-0D7DB48C5A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32A-6D73-43D0-8BB9-0F00913CF8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3ECC-4BB7-4B73-947C-ADEB9ECCC8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519-6F63-4FA4-AB0D-CA70DBB66A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C2B-3090-442E-A98A-2615FC3B94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F7FB-5C8D-4C44-BD56-D4072191D6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DFC-88D0-4409-9D46-62F254D50D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E026-6C2D-4B39-99CE-7007BC59ED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3DC8-56DA-4436-B56B-5FCEC293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70B-64DE-49CA-9A14-8645846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5B9-88D4-4E77-919A-8D6ED463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C45-53BA-4CF1-BCDA-E382452E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55A-B5F7-45BA-B3C6-9C32F22C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0DEE-8E0E-4000-8F85-E2915BB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6B4-F75A-425B-972B-90D5262C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98F-45D3-483D-8CF7-53E432B7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FE1-8639-46DC-8A2A-825D571B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8E3-2B11-4DBE-BEBD-7CCF560D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B13D-6787-4A61-B6EE-2FD421A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9D7-A71F-4A3F-9088-B3482B0C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43C0-B533-4BF2-936E-E79168D5E25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jpeg"/><Relationship Id="rId3" Type="http://schemas.openxmlformats.org/officeDocument/2006/relationships/image" Target="../media/image2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image" Target="../media/image6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4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8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101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AutoShape 11"/>
          <p:cNvSpPr/>
          <p:nvPr/>
        </p:nvSpPr>
        <p:spPr>
          <a:xfrm rot="5400000">
            <a:off x="-1866600" y="3314520"/>
            <a:ext cx="5181480" cy="144792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31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34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51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53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7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747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AutoShape 9"/>
          <p:cNvSpPr/>
          <p:nvPr/>
        </p:nvSpPr>
        <p:spPr>
          <a:xfrm rot="5400000">
            <a:off x="-1714680" y="2781360"/>
            <a:ext cx="5181840" cy="175248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3:14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